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5A8-9EE7-475B-998B-A6EF37CD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F02-2121-401F-B8E0-2EDBE086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065-4463-4534-A56A-A799E3EC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C39-69CF-4C48-88B5-99E4F575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F2A9-927F-46CA-AAF9-6796886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800-612F-4B59-AAE2-53E1B67B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700-E63E-435C-9933-EE52D581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C2E1-4AFF-4D12-BDA5-2D9787AC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4278-6EBA-4361-90A4-7E2EF7B9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4E0E-C11D-41B3-97DA-0D97CB8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92FE-AF63-486C-A03A-A4C170D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13F-0620-4D88-92BF-5C25A9A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F5B5-6A5A-4547-932D-6946C76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EB08-8C72-4A94-8EE1-2311A6F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4F07-AB37-4385-BBCC-14C5E61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CA0C-146D-499A-8923-043ECEC8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BBC4-0BCA-40AC-BA8B-AE46909B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7DC-755E-4C38-9B83-606107B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D57-4B16-4D56-8197-708BE6F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317-EACD-40E9-BCD2-B9CB331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61A-6C0E-4533-88D6-1BF50FE8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09F-E703-4095-A4C4-2FD8433C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D6D-F5AB-4D69-BFE6-0687DDA2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E4E-355C-4C6C-B3C7-B1817B4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4F94-1C28-42A2-88C6-8CC6B71DCAC0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5498-F402-4E5F-BD41-A44FF5F30B5B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PEP for EC Studen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3480" y="1981080"/>
            <a:ext cx="4395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EC PEP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an be used for an EC student who is below grade level and/or made a Level I or II on the EOG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Serves as a bridge between the regular education and special education provided to a student in order to help the student meet the accountability standard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For students on the extension of the SCOS, the PEP serves as a bridge between all services provided in order to help the student meet the state accountability standard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For students who have additional needs beyond the IEP (such as a student identified in math, but is struggling with reading), the regular Tier I/PEP needs to be completed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pecial Not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Directions have changed slightly.  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view the “When”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n addition to developing the PEP with the EC teacher, they also need to meet two additional times during the year.  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WHY?  To be sure the EC teacher and regular education teacher are collaborating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3:51:19Z</dcterms:created>
  <dc:creator>Chatham County Schools</dc:creator>
  <dc:description/>
  <dc:language>en-US</dc:language>
  <cp:lastModifiedBy>Chatham County Schools</cp:lastModifiedBy>
  <dcterms:modified xsi:type="dcterms:W3CDTF">2010-06-17T23:51:52Z</dcterms:modified>
  <cp:revision>1</cp:revision>
  <dc:subject/>
  <dc:title>PEP for EC Student</dc:title>
</cp:coreProperties>
</file>